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60E-8698-493C-BA30-32E7DDE3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59B1-FE65-4EE7-8E6E-9A5E7B6A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218-6B87-429F-A78E-98661191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721-CD21-4C99-BF66-5B8B8375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7A7E-E85B-471E-8171-EAED57AF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86C6-88D9-4EEF-B9E4-AA5FE197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BBF-AB9F-455A-8C1F-DEB4E84F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43FD-366C-453D-A892-2747083B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7672-05CD-4D3A-BD33-302291C6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BC4C-D0AA-4A19-B263-53FC06E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EC1F-F909-4224-A718-D54F474F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9FA-7430-42D2-9206-679CE18A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6AAA-B9D7-46E7-98E3-7A63CF5F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C735-1063-44FC-A364-5463668B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4D29-AED6-423A-88F7-F5CED1CE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A969-26D6-40C0-90AD-A0C0468C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25AD-43F3-4C44-AB02-90F85F97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676F-8465-400E-9554-5C25122B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CDF9-AF0E-439B-86AB-54029B32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D0BC-E4E2-46B6-A112-D324081E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0ADA-906D-41E3-B732-623D105B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DADC-6EF6-4FFC-8EEF-FD126FDF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361-47E5-4DA8-96E7-8E212291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8FF0-1B95-46FD-8C19-B64835E1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C8C3-9817-4D7B-8AD6-604A136D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5562-4D51-4048-B2D6-108DF6C3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7D4D-606C-4F51-9FF4-9043D0E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F3A3-C1C3-4C81-A51B-15762CB9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C22F-7A69-44A2-9DDF-09EC5449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CF8D-CCDA-47C1-A307-0F43A8E5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8EAB-49BD-4959-BA16-3AAC2EEB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4EB4-9727-4F93-8AC2-0A2F3BA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AB32-9E2B-47D1-9DAB-6B1F9D12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A2B-BDB2-4C80-8AFF-B53B7213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0580-F2A5-47E2-B3A6-DBE1E7C4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1F8A6-41E6-4529-B8CA-D692EE78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DA789-0EC4-48AE-850F-2973A111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762E-9596-47ED-B6C9-0099E099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8B7BA-7821-433F-9BD1-3E3033A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0CFD4-C8E7-4098-B296-C2E382E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77116-CB1E-40F9-BEA3-6215D9DB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8656-4307-44BC-837D-2D9E6F97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5F2A-AA4F-43C1-909F-EC349BBE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5325D-4C13-4D37-B27A-4E8ABAE7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5E7-5E0D-4BF7-A121-F000778C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C8DB8-10F1-4ED5-888C-837C3364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727E3-A6E9-4C27-BCD3-BAD7759F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5685C-A800-4515-9CF6-D98EB7B6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CC05-FC40-4DE3-8203-A13F8616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52519-3B81-41E9-86B9-F393A875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13FD-7BF4-4A8A-9E8C-B35355D6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28306-E712-481B-A75C-387BEA5C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AA50A-B486-414A-AEF6-117C9B31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39B07-15F9-446E-B384-836A97DD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75D45-6E3D-47E9-A105-1B0778AC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0BE-D0BC-4F0A-A3FA-B019FB92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77385-246F-48D1-B104-D6A5DB9D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F7FBA-18EB-4305-AEF1-197874D3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10B70-7C50-4C73-97FB-C982DCCF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38C89-11FE-4F87-9AF7-B74C1035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D9F6E-4B41-4C66-B7F1-BB8F27C3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DE982-77D7-4981-8701-DE1059D7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CBA7-C412-4889-B854-7B89D8EB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D601-09F4-449F-8CB6-846AEEE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40091-9B10-4D41-97A9-F2AA1BD1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48F07-090F-4B89-9963-0F555587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9F57-3B06-4E32-9356-FEEB1D28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2A058-26A6-44CA-8BC1-23B1926E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E76FF-1205-4103-B808-68E0CC03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66F74-C0FC-4D81-8371-C89B27FC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80E-65FF-4E81-B6D7-A4001FE0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C11-100A-44A5-8B03-4B73BAD4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9089-623C-4CE4-A195-5E0911890BD1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5B7B-43F3-4DD5-921E-6A472FFF78E1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621B-7D9C-44A0-BAB9-590EBBECC88C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DD89-B033-4129-A0F8-0A288D2646C9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6F62-5DB1-4D5F-ADF9-1EC1B1F0578E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FDE1-7550-484C-9B3C-4F44354513CA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905120" y="5867280"/>
            <a:ext cx="6570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5638680" y="380520"/>
            <a:ext cx="327672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b9811"/>
                </a:solidFill>
                <a:latin typeface="Britannic Bold"/>
              </a:rPr>
              <a:t>HOW TO SUCCESSFULLY USE YOUR STUDENT AGENDA</a:t>
            </a:r>
            <a:br>
              <a:rPr sz="3600"/>
            </a:b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4" descr="planner.JPG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00240" y="2282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5009"/>
                </a:solidFill>
                <a:latin typeface="Trebuchet MS"/>
              </a:rPr>
              <a:t>BE RESPONSIB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419720" y="24379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792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97923"/>
                </a:solidFill>
                <a:latin typeface="Calibri"/>
              </a:rPr>
              <a:t>Using your agenda will help you to become a more responsible student.  It will also assist in making you a responsible ad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5" descr="13.JP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00240" y="2282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5009"/>
                </a:solidFill>
                <a:latin typeface="Trebuchet MS"/>
              </a:rPr>
              <a:t>SET EXPECT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419720" y="24379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792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97923"/>
                </a:solidFill>
                <a:latin typeface="Calibri"/>
              </a:rPr>
              <a:t>Using your agenda will help you to you to set high expectations for yourself.  Then you can attain your goals with eas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5" descr="13.JP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13.JPG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409720" y="-360"/>
            <a:ext cx="3429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b5009"/>
                </a:solidFill>
                <a:latin typeface="Trebuchet MS"/>
              </a:rPr>
              <a:t>YOUR AGENDA IS ALSO YOUR HALL PAS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9" descr="hall pass.JPG"/>
          <p:cNvPicPr/>
          <p:nvPr/>
        </p:nvPicPr>
        <p:blipFill>
          <a:blip r:embed="rId1"/>
          <a:stretch/>
        </p:blipFill>
        <p:spPr>
          <a:xfrm>
            <a:off x="0" y="0"/>
            <a:ext cx="51228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54864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I go to the bathroo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need to call hom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2" descr="C:\Documents and Settings\boehmr\Local Settings\Temporary Internet Files\Content.IE5\VZ6L07MM\MP900400294[1].jpg"/>
          <p:cNvPicPr/>
          <p:nvPr/>
        </p:nvPicPr>
        <p:blipFill>
          <a:blip r:embed="rId2"/>
          <a:stretch/>
        </p:blipFill>
        <p:spPr>
          <a:xfrm>
            <a:off x="5486400" y="373392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b5009"/>
                </a:solidFill>
                <a:latin typeface="Trebuchet MS"/>
              </a:rPr>
              <a:t>ALSO IN YOUR AGENDA…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Content Placeholder 3" descr="comm.JPG"/>
          <p:cNvPicPr/>
          <p:nvPr/>
        </p:nvPicPr>
        <p:blipFill>
          <a:blip r:embed="rId1"/>
          <a:stretch/>
        </p:blipFill>
        <p:spPr>
          <a:xfrm>
            <a:off x="0" y="0"/>
            <a:ext cx="3886200" cy="38401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grammar.JPG"/>
          <p:cNvPicPr/>
          <p:nvPr/>
        </p:nvPicPr>
        <p:blipFill>
          <a:blip r:embed="rId2"/>
          <a:stretch/>
        </p:blipFill>
        <p:spPr>
          <a:xfrm>
            <a:off x="4038480" y="838080"/>
            <a:ext cx="5105520" cy="3505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istory.JPG"/>
          <p:cNvPicPr/>
          <p:nvPr/>
        </p:nvPicPr>
        <p:blipFill>
          <a:blip r:embed="rId3"/>
          <a:stretch/>
        </p:blipFill>
        <p:spPr>
          <a:xfrm>
            <a:off x="0" y="3886200"/>
            <a:ext cx="3886200" cy="2971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map.JPG"/>
          <p:cNvPicPr/>
          <p:nvPr/>
        </p:nvPicPr>
        <p:blipFill>
          <a:blip r:embed="rId4"/>
          <a:stretch/>
        </p:blipFill>
        <p:spPr>
          <a:xfrm>
            <a:off x="3962520" y="4506840"/>
            <a:ext cx="51814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b5009"/>
                </a:solidFill>
                <a:latin typeface="Trebuchet MS"/>
              </a:rPr>
              <a:t>ALSO IN YOUR AGENDA…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Content Placeholder 3" descr="comm.JPG"/>
          <p:cNvPicPr/>
          <p:nvPr/>
        </p:nvPicPr>
        <p:blipFill>
          <a:blip r:embed="rId1"/>
          <a:stretch/>
        </p:blipFill>
        <p:spPr>
          <a:xfrm>
            <a:off x="0" y="0"/>
            <a:ext cx="3581280" cy="3840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grammar.JPG"/>
          <p:cNvPicPr/>
          <p:nvPr/>
        </p:nvPicPr>
        <p:blipFill>
          <a:blip r:embed="rId2"/>
          <a:stretch/>
        </p:blipFill>
        <p:spPr>
          <a:xfrm>
            <a:off x="3581280" y="914400"/>
            <a:ext cx="5562720" cy="3505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history.JPG"/>
          <p:cNvPicPr/>
          <p:nvPr/>
        </p:nvPicPr>
        <p:blipFill>
          <a:blip r:embed="rId3"/>
          <a:stretch/>
        </p:blipFill>
        <p:spPr>
          <a:xfrm>
            <a:off x="0" y="388620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map.JPG"/>
          <p:cNvPicPr/>
          <p:nvPr/>
        </p:nvPicPr>
        <p:blipFill>
          <a:blip r:embed="rId4"/>
          <a:stretch/>
        </p:blipFill>
        <p:spPr>
          <a:xfrm>
            <a:off x="3733920" y="4506840"/>
            <a:ext cx="54100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5009"/>
                </a:solidFill>
                <a:latin typeface="Trebuchet MS"/>
              </a:rPr>
              <a:t>USE YOUR AGENDA DAILY!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7" name="Content Placeholder 3" descr="back cover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60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4864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IT WILL HELP YOU SUCCEED!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9" name="Content Placeholder 3" descr="22.JPG"/>
          <p:cNvPicPr/>
          <p:nvPr/>
        </p:nvPicPr>
        <p:blipFill>
          <a:blip r:embed="rId1"/>
          <a:stretch/>
        </p:blipFill>
        <p:spPr>
          <a:xfrm>
            <a:off x="0" y="3429000"/>
            <a:ext cx="5181480" cy="3505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front.JPG"/>
          <p:cNvPicPr/>
          <p:nvPr/>
        </p:nvPicPr>
        <p:blipFill>
          <a:blip r:embed="rId2"/>
          <a:stretch/>
        </p:blipFill>
        <p:spPr>
          <a:xfrm>
            <a:off x="0" y="-152280"/>
            <a:ext cx="51055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146160"/>
            <a:ext cx="2666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Content Placeholder 3" descr="plan.JPG"/>
          <p:cNvPicPr/>
          <p:nvPr/>
        </p:nvPicPr>
        <p:blipFill>
          <a:blip r:embed="rId1"/>
          <a:stretch/>
        </p:blipFill>
        <p:spPr>
          <a:xfrm>
            <a:off x="0" y="0"/>
            <a:ext cx="926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Content Placeholder 5" descr="3.JPG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Content Placeholder 3" descr="1.JPG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3" name="Content Placeholder 9" descr="6.JPG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Content Placeholder 7" descr="8.JPG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6858000"/>
          </a:xfrm>
          <a:prstGeom prst="rect">
            <a:avLst/>
          </a:prstGeom>
          <a:solidFill>
            <a:srgbClr val="d3f28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4114"/>
                </a:solidFill>
                <a:latin typeface="Arial Narrow"/>
              </a:rPr>
              <a:t>"THE ASSIGNMENT IS DUE WHEN? TOMORROW?“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64114"/>
                </a:solidFill>
                <a:latin typeface="Arial Narrow"/>
              </a:rPr>
              <a:t>WE'VE ALL BEEN THERE AT SOME POINT. SOMEHOW, THAT ASSIGNMENT DUE DATE JUST SLIPPED RIGHT UP ON US WITHOUT OUR NOTICING. </a:t>
            </a:r>
            <a:br>
              <a:rPr sz="2000"/>
            </a:br>
            <a:r>
              <a:rPr b="1" lang="en-US" sz="2000" spc="-1" strike="noStrike">
                <a:solidFill>
                  <a:srgbClr val="064114"/>
                </a:solidFill>
                <a:latin typeface="Arial Narrow"/>
              </a:rPr>
              <a:t>THAT IS WHY ORGANIZATIONAL SKILLS ARE SO IMPORTANT TO SCHOOL PERFORMANCE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64114"/>
                </a:solidFill>
                <a:latin typeface="Arial Narrow"/>
              </a:rPr>
              <a:t>WHO CAN AFFORD TO SCORE A BIG FAT "0" ON A PAPER, JUST BECAUSE WE GOT LAZY AND DIDN'T PAY ATTENTION TO THE DUE DATE?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64114"/>
                </a:solidFill>
                <a:latin typeface="Arial Narrow"/>
              </a:rPr>
              <a:t>WHO WANTS TO GET AN "F" BECAUSE WE FORGOT TO PUT OUR COMPLETED PROJECT IN OUR BOOK BAG THE NIGHT BEFORE IT WAS DUE?</a:t>
            </a: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Content Placeholder 3" descr="4.JPG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81120" y="228600"/>
            <a:ext cx="3505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USING YOUR PLANNER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12" descr="9.JPG"/>
          <p:cNvPicPr/>
          <p:nvPr/>
        </p:nvPicPr>
        <p:blipFill>
          <a:blip r:embed="rId1"/>
          <a:stretch/>
        </p:blipFill>
        <p:spPr>
          <a:xfrm>
            <a:off x="0" y="0"/>
            <a:ext cx="4387680" cy="3276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343040" y="1752120"/>
            <a:ext cx="4800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97923"/>
                </a:solidFill>
                <a:uFillTx/>
                <a:latin typeface="Calibri"/>
              </a:rPr>
              <a:t>Non-negotiable</a:t>
            </a: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You MUST use your planner for the following information in all of your class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Important due d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Homework assign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Testing D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Early Release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16" descr="11.JPG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81120" y="228600"/>
            <a:ext cx="3505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USING YOUR PLANNER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343040" y="1752120"/>
            <a:ext cx="4800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97923"/>
                </a:solidFill>
                <a:uFillTx/>
                <a:latin typeface="Calibri"/>
              </a:rPr>
              <a:t>Negot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You may use your planner for the following inform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School Da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Club meeting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7923"/>
                </a:solidFill>
                <a:latin typeface="Calibri"/>
              </a:rPr>
              <a:t>Celeb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6" descr="14.JPG"/>
          <p:cNvPicPr/>
          <p:nvPr/>
        </p:nvPicPr>
        <p:blipFill>
          <a:blip r:embed="rId1"/>
          <a:stretch/>
        </p:blipFill>
        <p:spPr>
          <a:xfrm>
            <a:off x="0" y="-228600"/>
            <a:ext cx="4800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7:30:05Z</dcterms:created>
  <dc:creator>rebecca boehm</dc:creator>
  <dc:description/>
  <dc:language>en-US</dc:language>
  <cp:lastModifiedBy>Sabrina Giroux</cp:lastModifiedBy>
  <dcterms:modified xsi:type="dcterms:W3CDTF">2011-09-23T13:34:47Z</dcterms:modified>
  <cp:revision>20</cp:revision>
  <dc:subject/>
  <dc:title>Slide 1</dc:title>
</cp:coreProperties>
</file>